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A91B0CE-B1A0-4D68-9756-0BCF9D6E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B97BC-427D-4850-B85E-116BAE1804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5A9A9-0A15-46DD-83D2-D4BC1DE289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08A21-9D58-45B7-9A56-EC926439B3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667E6-0E3C-4B9A-82A5-9E8F8B6245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08DE9-616C-43B4-8E1E-1BD3D6BB3C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596-6BA8-4841-BD59-E2051A86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8AD-72EF-41DE-882A-43D34B43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042-AFFE-4516-BFF7-19129F52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B9B-CE9F-4D39-A692-602F1F2A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8A4D-9D02-431E-935B-2A1D69D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959-B381-412D-A448-5FCBF81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BD4-FDB9-4AE5-B9CF-BB299321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2C18-9DF9-411A-881D-D6DC872D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6FA3-F2B9-4AB9-9768-AC73F63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FD07-A8C3-4409-8000-828C118E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3E0-B651-4053-AB6F-EEFC2E6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766-8D4E-4F04-89A4-E16F33C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DBAE-D74B-4AC4-B2D0-0ACAFDA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455-CA8F-409E-B38C-0B8E4FF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927-56D2-44B5-ACC6-6EDEC290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B6A-C523-4ACD-84CE-0012A5D3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BB6-D73E-4F6C-93AF-FA3A0E70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41F-4244-4989-AA55-4B767249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C3B-0887-4579-B852-3CEB2DD4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4FB-16C4-47E9-9935-124BD43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77A-2018-48C1-9E11-D94DAD0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D8F-9F55-48FA-96E3-938768E2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3D1-626B-43F0-9C6E-454292A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7CF-2126-4EA9-993E-CB914D51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AB8-27DE-4103-B2B0-3433BAA63C8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7A2-4714-4AAA-AE02-470EC1C8127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83E0-93AB-4D1E-9080-5B95C031A19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Wendy Tel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Wendy Telford User</cp:lastModifiedBy>
  <dcterms:modified xsi:type="dcterms:W3CDTF">2009-08-24T04:47:58Z</dcterms:modified>
  <cp:revision>170</cp:revision>
  <dc:subject/>
  <dc:title>Math GAINS 2008-09</dc:title>
</cp:coreProperties>
</file>